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756AAE-EF03-4529-A989-4D20367864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45B1C-1386-42BD-99C9-06489EF4E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730427-71AA-452E-9B07-FBCCEDF167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FB9297-8D57-4377-B736-B011B082EB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DA086-FCCE-4CBF-8DBB-1E328A58D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5926A-72FC-435B-A0FD-47E31079A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8E650-6101-4ED0-A546-FC1749AA3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2D8E7-7958-4FB4-BE7D-765AA383C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065C0-5820-404A-8CF7-BF9A9814E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EFB19-D683-4CC9-BDEC-18E2B5616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7DEBA-EB31-4EE8-9283-0097E7D6E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4EECD-E852-4D60-ABB2-7ECDFCF099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B3749-C71F-487C-BB09-1319C5DA65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00808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Bodoni MT Black"/>
              </a:rPr>
              <a:t>Adoption of the iPod in the World of Education</a:t>
            </a:r>
            <a:endParaRPr b="0" lang="en-US" sz="4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008080"/>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CAC Saxon Bold"/>
              </a:rPr>
              <a:t>To Create an Intent to Change in the Client</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rbel"/>
              </a:rPr>
              <a:t>The next step in the process would be to develop a pilot program for interested teachers.  The change agent would have to create examples of how iPods can be used in the classroom and set up meeting times with each pilot participant to develop a specialized lesson for their course.  In addition, this would also mean that the change agent would have to be present in the pilot classrooms to help provide comfort to first timers.</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008080"/>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AC Saxon Bold"/>
              </a:rPr>
              <a:t>To Translate an Intent to Actio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bel"/>
              </a:rPr>
              <a:t>From here, the adoption of the iPod for classroom use would rely on the success of the pilot program.  This includes receiving teacher feedback on what the pros and cons of the iPod are.  Also, diffusion of adoption depends on the comments being made by pilot participants to fellow colleagues.  Positive remarks will lead to more interest in iPods.  </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008080"/>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CAC Saxon Bold"/>
              </a:rPr>
              <a:t>To Stabilize Adoption and Prevent Discontinuance</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rbel"/>
              </a:rPr>
              <a:t>In order to stabilize the adoption, staff development lunches will be necessary.  At this time, participants of the pilot program can serve as illustrations to the general staff, attesting the success of the iPod in the classroom.  Providing pros and cons to the staff will also help make the innovation process more of a reality to the future adopters.  It is always important to address the negative aspects as not to deceive future adopters.</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008080"/>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AC Saxon Bold"/>
              </a:rPr>
              <a:t>To Achieve a Terminal Relationship</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bel"/>
              </a:rPr>
              <a:t>Once fellow colleagues have witnessed validation of the iPod in the classroom, a greater rate of adoption can take place among the staff.  This by no means assumes that everyone will adopt the iPod for classroom use, but many will attempt it. At this point, pilot program participants will be able to help new adopters with the process and slowly lessen dependency on the change agent.  </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00808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AC Saxon Bold"/>
              </a:rPr>
              <a:t>But…</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rbel"/>
              </a:rPr>
              <a:t>Is diffusion and adoption of the iPod in the education world that easy?  The answer is not yet, but it will be!</a:t>
            </a:r>
            <a:endParaRPr b="0" lang="en-US" sz="4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008080"/>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AC Saxon Bold"/>
              </a:rPr>
              <a:t>Critical Mas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bel"/>
              </a:rPr>
              <a:t>The adoption of the iPod among the general public has met and greatly surpassed the critical mass.  However, by applying the concept  to the iPod for classroom use, critical mass has not been achieved.  This means that diffusion has not become “self-sustaining” (Rogers, 2003, p. 343).  So what can help the iPod reach this point in the classroom?</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008080"/>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AC Saxon Bold"/>
              </a:rPr>
              <a:t>Critical Mas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bel"/>
              </a:rPr>
              <a:t>In order for the iPod to reach the point of critical mass in the educational world, the best strategy entails “introducing [the innovation] to intact groups in the system whose members are likely to be relatively more innovative” (Rogers, 2003, p. 361).  Since the change agent will be developing a pilot program with volunteers, this provides the perfect opportunity.</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008080"/>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80880" y="380880"/>
            <a:ext cx="8229600" cy="4525920"/>
          </a:xfrm>
          <a:prstGeom prst="rect">
            <a:avLst/>
          </a:prstGeom>
          <a:noFill/>
          <a:ln w="0">
            <a:noFill/>
          </a:ln>
        </p:spPr>
        <p:txBody>
          <a:bodyPr lIns="90000" rIns="90000" tIns="46800" bIns="46800" anchor="t">
            <a:normAutofit fontScale="80000"/>
          </a:bodyPr>
          <a:p>
            <a:pPr marL="2743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The members of the pilot group will become comfortable using iPods in their classrooms through experience.  Though by no means experts, those willing to participate in such a study show the desire to create a more innovative classroom.  Since North Gwinnett already has online teachers as a group and also members of the Big Bird pilot program, intact innovative groups already exist.  During a lunch and learn, demonstrations and example lessons using iPods can be shared by the pilot program participants.  This will help the adoption of the iPod reach the point of critical mass so that adoption by all will be inevitable.      </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6600"/>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3399"/>
                </a:solidFill>
                <a:uFillTx/>
                <a:latin typeface="Bradley Hand ITC"/>
              </a:rPr>
              <a:t>Works Cited</a:t>
            </a:r>
            <a:endParaRPr b="0" lang="en-US" sz="4400" spc="-1" strike="noStrike">
              <a:solidFill>
                <a:srgbClr val="000000"/>
              </a:solidFill>
              <a:latin typeface="Arial"/>
            </a:endParaRPr>
          </a:p>
        </p:txBody>
      </p:sp>
      <p:sp>
        <p:nvSpPr>
          <p:cNvPr id="73" name="PlaceHolder 2"/>
          <p:cNvSpPr>
            <a:spLocks noGrp="1"/>
          </p:cNvSpPr>
          <p:nvPr>
            <p:ph/>
          </p:nvPr>
        </p:nvSpPr>
        <p:spPr>
          <a:xfrm>
            <a:off x="152280" y="1294920"/>
            <a:ext cx="8763120" cy="4876920"/>
          </a:xfrm>
          <a:prstGeom prst="rect">
            <a:avLst/>
          </a:prstGeom>
          <a:noFill/>
          <a:ln w="0">
            <a:noFill/>
          </a:ln>
        </p:spPr>
        <p:txBody>
          <a:bodyPr lIns="90000" rIns="90000" tIns="46800" bIns="46800" anchor="t">
            <a:normAutofit/>
          </a:bodyPr>
          <a:p>
            <a:pPr marL="343080" indent="-343080">
              <a:lnSpc>
                <a:spcPct val="90000"/>
              </a:lnSpc>
              <a:spcBef>
                <a:spcPts val="649"/>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Corbel"/>
              </a:rPr>
              <a:t>Hormby, T. &amp; Knight, D. (2007).  A History of the iPod: 2000 to 2004.  Low End Mac.  Retrieved June 25, 2009, from http://lowendmac.com/orchard/05/origin-of-the-ipod.html#0. </a:t>
            </a:r>
            <a:endParaRPr b="0" lang="en-US" sz="2600" spc="-1" strike="noStrike">
              <a:solidFill>
                <a:srgbClr val="000000"/>
              </a:solidFill>
              <a:latin typeface="Arial"/>
            </a:endParaRPr>
          </a:p>
          <a:p>
            <a:pPr marL="343080" indent="-343080">
              <a:lnSpc>
                <a:spcPct val="90000"/>
              </a:lnSpc>
              <a:spcBef>
                <a:spcPts val="649"/>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Corbel"/>
              </a:rPr>
              <a:t>Lessons from Apple.</a:t>
            </a:r>
            <a:r>
              <a:rPr b="1" lang="en-US" sz="2600" spc="-1" strike="noStrike">
                <a:solidFill>
                  <a:srgbClr val="333399"/>
                </a:solidFill>
                <a:latin typeface="Corbel"/>
              </a:rPr>
              <a:t> Economist, 00130613, 6/9/2007, Vol. 383, Issue 8532.  Database: B</a:t>
            </a:r>
            <a:r>
              <a:rPr b="1" i="1" lang="en-US" sz="2600" spc="-1" strike="noStrike">
                <a:solidFill>
                  <a:srgbClr val="333399"/>
                </a:solidFill>
                <a:latin typeface="Corbel"/>
              </a:rPr>
              <a:t>usiness Source Premier.  Retrieved July 2, 2009, from  </a:t>
            </a:r>
            <a:r>
              <a:rPr b="1" lang="en-US" sz="2600" spc="-1" strike="noStrike">
                <a:solidFill>
                  <a:srgbClr val="333399"/>
                </a:solidFill>
                <a:latin typeface="Corbel"/>
              </a:rPr>
              <a:t>http://web.ebscohost.com.ezp.waldenulibrary.org/bsi/detail?vid=9&amp;hid=106&amp;sid=c6445905-3958-45b4-a7f7-57467fc320ee%40sessionmgr108&amp;bdata=JnNpdGU9YnNpLWxpdmU%3d#db=buh&amp;AN=25419026.</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6600"/>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04560" y="228600"/>
            <a:ext cx="8458200" cy="6400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rbel"/>
              </a:rPr>
              <a:t>Lloyd, D. (2004).  Instant Expert: A Brief History of iPod.  iLounge Publishing.  Retrieved July 2, 2009, from http://www.ilounge.com/index.php/articles/comments/instant-expert-a-brief-history-of-ipod/.</a:t>
            </a:r>
            <a:endParaRPr b="0" lang="en-US" sz="2800" spc="-1" strike="noStrike">
              <a:solidFill>
                <a:srgbClr val="000000"/>
              </a:solidFill>
              <a:latin typeface="Arial"/>
            </a:endParaRPr>
          </a:p>
          <a:p>
            <a:pPr marL="339480" indent="-339480">
              <a:lnSpc>
                <a:spcPct val="80000"/>
              </a:lnSpc>
              <a:spcBef>
                <a:spcPts val="700"/>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rbel"/>
              </a:rPr>
              <a:t>Malley, A. (2009).  Notes of interest from Apple’s Q209 quarterly conference call.  Retrieved from AppleInsider July 2, 2009, from http://www.appleinsider.com/articles/09/04/22/notes_of_interest_from_apples_q209_quarterly_conference_call.html.</a:t>
            </a:r>
            <a:endParaRPr b="0" lang="en-US" sz="2800" spc="-1" strike="noStrike">
              <a:solidFill>
                <a:srgbClr val="000000"/>
              </a:solidFill>
              <a:latin typeface="Arial"/>
            </a:endParaRPr>
          </a:p>
          <a:p>
            <a:pPr marL="339480" indent="-339480">
              <a:lnSpc>
                <a:spcPct val="80000"/>
              </a:lnSpc>
              <a:spcBef>
                <a:spcPts val="700"/>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rbel"/>
              </a:rPr>
              <a:t>Muller, T.  (23 April 2008).  The Outlook for Apple’s iPod Business from Seeking Alpha.  Retrieved July 9, 2009, from http://seekingalpha.com/article/73612-the-outlook-for-apple-s-ipod-business.</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00808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AC Saxon Bold"/>
              </a:rPr>
              <a:t>Centralized or Decentralized Approach?</a:t>
            </a:r>
            <a:endParaRPr b="0" lang="en-US" sz="4400" spc="-1" strike="noStrike">
              <a:solidFill>
                <a:srgbClr val="000000"/>
              </a:solidFill>
              <a:latin typeface="Arial"/>
            </a:endParaRPr>
          </a:p>
        </p:txBody>
      </p:sp>
      <p:sp>
        <p:nvSpPr>
          <p:cNvPr id="43"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fontScale="89000"/>
          </a:bodyPr>
          <a:p>
            <a:pPr marL="3052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Board of Directors, in order to effectively integrate the use of the iPod in classrooms a decentralized approach must be taken.  This tacit will be more effective than a centralized approach for numerous reasons.  Most importantly, when ideas come from the top and disseminate down, they are often met with resistance from classroom teachers.  The reason focuses on the fact that developers are not in the classroom so how can their idea effectively work in the classroom? </a:t>
            </a:r>
            <a:endParaRPr b="0" lang="en-US" sz="3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6600"/>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38088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rbel"/>
              </a:rPr>
              <a:t>Rogers, E. (2003). Diffusion of Innovations. (5th ed.). New York: NY; Free Press </a:t>
            </a:r>
            <a:endParaRPr b="0" lang="en-US" sz="3200" spc="-1" strike="noStrike">
              <a:solidFill>
                <a:srgbClr val="000000"/>
              </a:solidFill>
              <a:latin typeface="Arial"/>
            </a:endParaRPr>
          </a:p>
          <a:p>
            <a:pPr marL="343080" indent="-343080">
              <a:lnSpc>
                <a:spcPct val="100000"/>
              </a:lnSpc>
              <a:spcBef>
                <a:spcPts val="799"/>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rbel"/>
              </a:rPr>
              <a:t>Wikipedia. (7 July 2009). iPod: iPod sales per quarter.  Retrieved July 9, 2009, from http://en.wikipedia.org/wiki/File:Ipod_sales_per_quarter.svg.</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008080"/>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AC Saxon Bold"/>
              </a:rPr>
              <a:t>Decentralization is Best!</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A decentralized approach is necessary.  As Rogers’ (2003) explains this approach is implemented by those actually using the innovation and diffusion comes from peer networks.  The users are not experts by any means but ordinary classroom teachers.  With a technology that can by highly frustrating for classroom teachers, forcing them to adopt the use of iPods will not happen easily.  Instead, a non-forceful approach will be welcomed.</a:t>
            </a:r>
            <a:endParaRPr b="0" lang="en-US" sz="3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008080"/>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AC Saxon Bold"/>
              </a:rPr>
              <a:t>But…</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rbel"/>
              </a:rPr>
              <a:t>What if educators have issues, questions, or concerns about iPods?  What if they need ideas for lessons?  Educators need a comfort zone and a change agent can provide just that!</a:t>
            </a:r>
            <a:endParaRPr b="0" lang="en-US" sz="4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00808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AC Saxon Bold"/>
              </a:rPr>
              <a:t>Change Agents</a:t>
            </a:r>
            <a:endParaRPr b="0" lang="en-US" sz="4400" spc="-1" strike="noStrike">
              <a:solidFill>
                <a:srgbClr val="000000"/>
              </a:solidFill>
              <a:latin typeface="Arial"/>
            </a:endParaRPr>
          </a:p>
        </p:txBody>
      </p:sp>
      <p:sp>
        <p:nvSpPr>
          <p:cNvPr id="49" name="PlaceHolder 2"/>
          <p:cNvSpPr>
            <a:spLocks noGrp="1"/>
          </p:cNvSpPr>
          <p:nvPr>
            <p:ph/>
          </p:nvPr>
        </p:nvSpPr>
        <p:spPr>
          <a:xfrm>
            <a:off x="380880" y="1371600"/>
            <a:ext cx="8229600" cy="4525920"/>
          </a:xfrm>
          <a:prstGeom prst="rect">
            <a:avLst/>
          </a:prstGeom>
          <a:noFill/>
          <a:ln w="0">
            <a:noFill/>
          </a:ln>
        </p:spPr>
        <p:txBody>
          <a:bodyPr lIns="90000" rIns="90000" tIns="46800" bIns="46800" anchor="t">
            <a:normAutofit fontScale="88000"/>
          </a:bodyPr>
          <a:p>
            <a:pPr marL="3016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rbel"/>
              </a:rPr>
              <a:t>Change agents help make the diffusion process happen.  Their role is to provide expert knowledge about an innovation and share it with future adopters.  Often times these change agents serve a great benefit in the adoption process.  They essentially help the future adopter become a change agent them self!  </a:t>
            </a: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008080"/>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920" y="380520"/>
            <a:ext cx="8534160" cy="6172200"/>
          </a:xfrm>
          <a:prstGeom prst="rect">
            <a:avLst/>
          </a:prstGeom>
          <a:noFill/>
          <a:ln w="0">
            <a:noFill/>
          </a:ln>
        </p:spPr>
        <p:txBody>
          <a:bodyPr lIns="90000" rIns="90000" tIns="46800" bIns="46800" anchor="t">
            <a:normAutofit fontScale="92000"/>
          </a:bodyPr>
          <a:p>
            <a:pPr marL="31536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rbel"/>
              </a:rPr>
              <a:t>In order to help integrate iPods in the classroom, assistance from change agents will be necessary.  Change agents can have a difficult time communicating with future adopters because their knowledge is so vast about the technological innovation.  Therefore, this will not be a solo venture.  One definite change agent necessary will be Mike Reilly, a technology specialist at North Gwinnett High School.  </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00808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AC Saxon Bold"/>
              </a:rPr>
              <a:t>To Develop a Need for Change</a:t>
            </a:r>
            <a:endParaRPr b="0" lang="en-US" sz="4400" spc="-1" strike="noStrike">
              <a:solidFill>
                <a:srgbClr val="000000"/>
              </a:solidFill>
              <a:latin typeface="Arial"/>
            </a:endParaRPr>
          </a:p>
        </p:txBody>
      </p:sp>
      <p:sp>
        <p:nvSpPr>
          <p:cNvPr id="52"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fontScale="82000"/>
          </a:bodyPr>
          <a:p>
            <a:pPr marL="281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bel"/>
              </a:rPr>
              <a:t>Along with assistance from a pilot group, there are seven steps for the change agent to successfully introduce the innovation to the social system.  This first step is necessary to make known why there is a need for change and how a particular innovation can help.  By exploiting the problem that classroom teachers have with the recreational use of iPods, suggesting iPod use for lessons may show teachers that there is a need for change.</a:t>
            </a:r>
            <a:endParaRPr b="0" lang="en-US" sz="3200" spc="-1" strike="noStrike">
              <a:solidFill>
                <a:srgbClr val="000000"/>
              </a:solidFill>
              <a:latin typeface="Arial"/>
            </a:endParaRPr>
          </a:p>
          <a:p>
            <a:pPr marL="281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00808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CAC Saxon Bold"/>
              </a:rPr>
              <a:t>To Establish an Information Exchange Relationship </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rbel"/>
              </a:rPr>
              <a:t>The next step involves validating the expertise of the change agent.  In this case, the main change agent is a technology specialist at my traditional school who has been a county finalist for teacher of the year for his technology innovations in the classroom.  He is known as the “technology guru” among the staff and maintains the school’s website.  In addition, his wife works for a major curriculum development company for the online environment.  His credentials support his expertise.  Because of this, many of the staff (including the principal) are open to the idea of technology in the classroom if he endorses it.</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00808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AC Saxon Bold"/>
              </a:rPr>
              <a:t>To Diagnose Problem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bel"/>
              </a:rPr>
              <a:t>To diagnose the problem of iPods for recreational use in school will be an easy task.  My change agent is also a classroom teacher so he understands fellow educators frustrations.</a:t>
            </a:r>
            <a:r>
              <a:rPr b="1" lang="en-US" sz="3200" spc="-1" strike="noStrike">
                <a:solidFill>
                  <a:srgbClr val="000000"/>
                </a:solidFill>
                <a:latin typeface="Corbel"/>
              </a:rPr>
              <a:t>  </a:t>
            </a:r>
            <a:r>
              <a:rPr b="1" lang="en-US" sz="3200" spc="-1" strike="noStrike">
                <a:solidFill>
                  <a:srgbClr val="ffffff"/>
                </a:solidFill>
                <a:latin typeface="Corbel"/>
              </a:rPr>
              <a:t>He needs to stress the discipline problems based on iPods.  Examining the negative and providing a positive solution will provide teachers and administrators with a new perspective.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2T18:47:13Z</dcterms:created>
  <dc:creator>e200511093</dc:creator>
  <dc:description/>
  <dc:language>en-US</dc:language>
  <cp:lastModifiedBy>e200511093</cp:lastModifiedBy>
  <dcterms:modified xsi:type="dcterms:W3CDTF">2009-07-22T18:50:19Z</dcterms:modified>
  <cp:revision>1</cp:revision>
  <dc:subject/>
  <dc:title>Adoption of the iPod in the World of Education</dc:title>
</cp:coreProperties>
</file>